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2F2-BF42-4FBF-865F-EC0E61ED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7AA-AF5A-4F5A-AF22-207C5FD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B2134-AF98-48AE-B7DB-A3118023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42180-BDCC-4ECE-9028-E0B94B10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6091-63DD-46C9-9C0E-21D32C7B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5E9B-37E3-495E-BD53-19620DE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AB9B6-9A02-4C8E-A68B-F8B8DC0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CF6F4-B5D2-4327-9D67-50BA278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ADD6D-EBD3-44EE-8CA6-F8DD885D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D57E6-5DB5-422A-A987-16B61AFB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E222-4E83-4F75-9560-48D377D9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67356-6B57-489B-9424-2C8C7F7F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4B-271E-4881-B552-BFB8C037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EC4E7-553F-4570-9AE5-92B2D79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1F52C-B7D8-4CCD-B559-98BA74D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B2867-E7BC-4265-B68D-D6EDC53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AC97C-86B4-4C91-A040-D9B6A1BD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481C1-1AE0-4062-8897-1826F7F4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23009-5616-4916-9521-00785E3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9F94B-E506-4AB2-B486-B0FA264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241BC-17C4-4DED-82EE-51F86A7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A33A-D796-4658-9AE5-DBF1C785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811A5-AF46-4131-9F35-C4F04804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FA5-0109-4A01-9F50-DFAB69C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0B216-1C07-41DE-A126-5D1E28A8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EDF4-446D-4BC6-9813-B08905DF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3897-37FE-4638-9A9B-9E6DED47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A30B2-FBC5-4283-90F2-9CA322F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72D9A-919F-4A59-9E95-24FC443C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3BAFC-B8D5-43FF-879B-C16CA18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FEB1-18F6-4EFC-91C1-34DD34F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F2FF-09A4-4829-A54A-119116F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0C3A-779E-4421-9D44-7428785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B903A-E0A2-4567-B19E-C109F19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ED2-9E24-4D69-808C-D90C6A4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3324E-8AFF-4310-A565-BED4FAE5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4FB9-7675-45F4-A7A0-CECBDE2D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DE2A-996F-47C0-A304-2CFFFE05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8C617-1A39-4190-9728-4B842F6B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7AAC6-2206-4B51-9E02-BA3A7849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2EB6F-5EAC-497E-97B4-8965D7E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35577-8422-4A93-BE9C-1A184D7B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DF92C-C5FD-4C25-BB57-2557717B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08897-74B2-4C59-8471-4D728E2B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F8797-B8D5-49E3-B99E-00A82F4C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551-247B-4CAA-84C8-8E0C7598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52CC-B3DB-4FA4-A3C7-0EB5462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98037-4E2D-49B5-9BBC-017E6C3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9B864-36EE-4EAE-9A36-800E98D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6668E-3003-4F66-AC77-2B452322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5E862-472F-4894-8BDF-9063218C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1F2A-EFE4-45CF-8280-CE34A71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2602-F022-4D1E-8611-8B983834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6D2-C14A-4C84-8F4B-6F9313E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8A0-97F3-4336-834F-E1EC2BD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112-8F2F-406A-8CFB-188A44A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C9B-56FF-40FD-BFF5-3D066B94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CAE-E57E-4A3B-856E-1415CA9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621C-C063-4485-A5C5-418FA24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BB27-B662-420A-8609-9EF30D7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0661-385D-4E1F-BC4E-5BD17C9C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5DCE-6AB2-4BFC-80C4-79D55A02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ECC8-1C1A-4629-9914-36AB3E39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1013-7AF2-47A2-89E9-9525F2B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3869-677D-4BD6-B15E-D07CC523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F1E8-BB45-4F20-82F5-BFCAD75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30D3-D8DE-4C7A-AACC-8567B38F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E12-11A0-4226-A81B-20E9CA1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A3C7-5076-40D2-B852-22B21CF5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6F4E-459C-45E6-AF64-DE04807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DEB8-562D-444B-8062-9B4D242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0657-F809-4A89-9D4C-F8C0D79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2C0E-87DF-41A4-B282-D8ED1B8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F12F-8863-43F7-A1AB-FEDECD65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C501-ADC6-4A02-BFA5-4206C9F1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B18E-8718-42EE-B82C-14A5C999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8141-79F5-4591-B2A4-FA04B5EB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FD57-B7BB-4801-BA50-7D433A3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309-F099-4E6C-9F0E-A09C6A0C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F0E0-1075-416F-BDE4-4C8D758D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6EDC-E81C-4385-9563-EBBFB6E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9D2D-C014-4FCF-8CB5-32A139C1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4F11-ABFE-41BB-9903-52B7834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CECD-E1AF-4626-B4E5-CA8F25D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1F88-8C15-462D-95FB-A023CDF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9317-67B1-482B-B3EA-1D4C092C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F61A-ECA9-40BF-A9E8-098447D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3426-3705-443E-8FBC-743F42A2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BBA8-8E29-451D-B3C4-9F3A596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065-C7B1-484C-90E5-5FCE846F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5285-98A2-4D9C-AB66-C813067E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724B-E9C8-47CB-9CE3-A8BF15F2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8426-CBE1-437A-BE3E-A2199AF7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5A09-D651-425B-A49A-E585CA2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F9DE-C3F7-4126-BFA9-5D34868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E903-AC0A-4776-A885-5921D69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E511-8F61-4FF7-8610-2E88096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60CF-FF37-4C81-9E60-4EFCB88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77B6-FACF-49F0-9D66-8B0D5F6D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E897-3034-4AAD-94CF-36134DFA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509-D8AB-4BB4-8A78-36E9BE65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0951-70A6-4B98-AFCC-74A452E8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1038-46E7-4BDF-B311-BED04DE5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68E1-A7DE-40D7-8099-10A8CFDE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5AE0-373E-48CA-B402-ACAC35AE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08E9-02E2-44F4-876B-9DA17C05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D409-14DE-408F-B234-1DE3EC5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3ADCF-9A1D-44FF-8F38-906D246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AAC0-CBCA-41C2-A588-59EA24B5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B232-AC7B-4F8C-83A3-25FBC35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A2E1-2CC6-4F3A-BB80-B67B276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4C0-13E2-4F89-BE4A-1153AC8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A545-20F3-4EA0-9EB9-678E031D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B7C1-251B-4691-B0A1-2AD7C712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8DF8-434B-4500-8C16-97E87AE8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A115-646A-4D39-B0B9-F719FD1D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BDF0-4036-48AE-847C-4B05CEC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3E13-EB5E-4970-A8F2-59F3593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9D6E-F447-4AA6-837D-AA83AD92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CA46-A0DC-413E-85D2-822E1A94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EA3B-FEFE-4461-81AF-EFAD41CA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512D-ACBF-451B-9483-32B5B7F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D26-2199-44E0-86EA-3F51022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CCEDD-4B7D-4BFF-A6BF-6A1E7EC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3D85-DC21-4F89-8710-97CB338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31EA-EBD0-4A5F-86B7-38E0BD4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EA3D-6E07-4E3B-9B61-AA8932E0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9DAE7-C3A2-4B76-B343-A9733F4C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86AFF-5ED6-4F63-9E91-79665AD2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47C4-D4D8-4B11-A19F-F34859EA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8B847-10B4-46FD-8AA0-945C78F4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7C43-80F6-420F-A1C3-3FD14ED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6069-1E45-481F-BD42-31FFC2E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DEB-6A49-45FA-BA8B-7570B82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F8B78-4D91-45A8-BA91-EE8789C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19838-2D1E-434E-99A5-F791260E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443A-9BB7-4A51-91C9-16497FCB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DB4C-5209-4C71-9C6E-E6B0D15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0C1F2-B744-43BC-8AE1-D89651E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219A-9652-4024-A328-ED60A015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04C7B-7AAF-4FC6-8EC0-BCAC7CD1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EBFCC-E738-41AC-AC2D-11610A13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4D6F2-9E53-4858-AA62-E92EBB1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91AED-D045-46BB-867E-3BBF2152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8B3-277B-4727-A1F5-F4F0928BAC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464-2825-4B88-BB83-0AE60BC9CA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FC16-9CC2-41FE-9A43-D602DE2B99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9FFF-E151-443B-BFEA-A083359A3A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6A1-3781-4658-9EED-1CE148B541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112-5FD1-4336-A020-3DA0ABE210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75E-3AF9-4D3E-90A5-DAEC491401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36C4-D582-4E20-A6BE-40CE84047D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E32-0FD7-4B84-81CD-3CA396A810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9A78-B92A-4514-AB9E-BB8F434464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54F-FF05-4D98-B80B-06CFF9627A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0461-B697-4280-9148-04A9AA1202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2 Božia milosť nezmerná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milosť nezmerná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šíra mora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ský kríž dokaz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Boh svetu darova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ruč Otca víta sy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 zradil rodný 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vinu už nespomí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ši kajúcnika st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milosť prevyš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let predstáv člove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ármutku ho poteš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sa ho nezri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y kvapkou v mori bo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a ľútosť úprim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stále vol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ec s nami súcit m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25:44Z</dcterms:modified>
  <cp:revision>33</cp:revision>
  <dc:subject/>
  <dc:title>Je veľký náš Pán, on slávy je Kráľ Nech do všetkých strán  spev vrúcnych znie chvál.</dc:title>
</cp:coreProperties>
</file>